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3F8-C8A9-4399-A39E-2B482921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947-9C4E-49A1-831D-F85ED45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F29-C52D-40FD-84A8-5EBC4529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125-33E9-4AC3-AE40-4137F2E6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26D-67FB-4348-988F-EB3D0807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D65-15FE-48CD-BC7C-DA33EDF9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B0E-857F-4C48-BA53-7E7E3D51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4EE-2DCF-482E-93B5-570C96BF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06E-173D-44E6-8D5F-4FB35238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509-981F-45CF-A8E3-4BD58850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452-321C-44AD-A1BB-F63FBDF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04E-93FC-4696-A898-08B4E8C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243F-2607-4F81-9C6A-58812B5EFAFD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3042b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3042b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3042b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Angles and Arcs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ctober 2007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42b"/>
                </a:solidFill>
                <a:latin typeface="Trebuchet MS"/>
              </a:rPr>
              <a:t>Use the properties of central angles, inscribed angles, triangles, and diameters to solve for x in each of the following:</a:t>
            </a:r>
            <a:r>
              <a:rPr b="0" lang="en-US" sz="4000" spc="-1" strike="noStrike">
                <a:solidFill>
                  <a:srgbClr val="03042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06320" y="2374920"/>
            <a:ext cx="77295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4720" y="906480"/>
            <a:ext cx="81345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Draw a circl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Mark 4 points on the circumference of the circl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nscribe a quadrilateral                       in the circl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Measure the angl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hat do you notice?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743200"/>
            <a:ext cx="2819520" cy="2666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2819520"/>
            <a:ext cx="152640" cy="152280"/>
          </a:xfrm>
          <a:prstGeom prst="ellipse">
            <a:avLst/>
          </a:prstGeom>
          <a:solidFill>
            <a:srgbClr val="0304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3962520"/>
            <a:ext cx="152280" cy="152280"/>
          </a:xfrm>
          <a:prstGeom prst="ellipse">
            <a:avLst/>
          </a:prstGeom>
          <a:solidFill>
            <a:srgbClr val="0304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5334120"/>
            <a:ext cx="152640" cy="152280"/>
          </a:xfrm>
          <a:prstGeom prst="ellipse">
            <a:avLst/>
          </a:prstGeom>
          <a:solidFill>
            <a:srgbClr val="0304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971800"/>
            <a:ext cx="152280" cy="152280"/>
          </a:xfrm>
          <a:prstGeom prst="ellipse">
            <a:avLst/>
          </a:prstGeom>
          <a:solidFill>
            <a:srgbClr val="0304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yclic Quadrilateral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 quadrilateral inscribed in a circl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pposite angles in a cyclic quadrilateral are supplementary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733920"/>
            <a:ext cx="3200400" cy="2819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19320" y="4190760"/>
            <a:ext cx="2514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914040" y="42670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410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743200" y="4190760"/>
            <a:ext cx="99072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50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3320" y="4105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2360" y="414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616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800600" y="3809880"/>
                <a:ext cx="33526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97440" y="4757760"/>
                <a:ext cx="33098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Warm-up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nd the measure of      BAD 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9200" y="2057400"/>
                <a:ext cx="463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33920" y="3048120"/>
            <a:ext cx="4190760" cy="322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46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Arcs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 chord divides a circle into two arc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smaller arc is a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minor arc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, and the larger arc is a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major arc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24382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entral Angl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central angle 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as its vertex at the centre of a circle, and two radii form the arm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entral angle AOC is described as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subtended 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by the chord AC and by the arc AC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724280"/>
            <a:ext cx="18334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Inscribed Angl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n </a:t>
            </a:r>
            <a:r>
              <a:rPr b="1" lang="en-US" sz="3200" spc="-1" strike="noStrike">
                <a:solidFill>
                  <a:srgbClr val="03042b"/>
                </a:solidFill>
                <a:latin typeface="Trebuchet MS"/>
              </a:rPr>
              <a:t>inscribed angle 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as its vertex on the circle, and two chords form the arm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nscribed angle ABC is also described as subtended by the chord AC and by the arc AC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103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measure of an arc is the measure of the central angle subtended by the arc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90920" y="3886200"/>
            <a:ext cx="34542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nscribed angles subtended by the same arc, or by equal arcs, are congruent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3727440"/>
            <a:ext cx="69343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measure of the central angle is equal to twice the measure of the inscribed angle subtended by the same arc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27781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angle inscribed in a semicircle is a right angle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9592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7:04:01Z</dcterms:created>
  <dc:creator>nbdoe</dc:creator>
  <dc:description/>
  <cp:keywords>Education</cp:keywords>
  <dc:language>en-US</dc:language>
  <cp:lastModifiedBy>nbdoe</cp:lastModifiedBy>
  <dcterms:modified xsi:type="dcterms:W3CDTF">2007-10-18T23:42:09Z</dcterms:modified>
  <cp:revision>16</cp:revision>
  <dc:subject>Template Ready</dc:subject>
  <dc:title>Angles and Arcs</dc:title>
</cp:coreProperties>
</file>